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8B4-277B-446A-9C92-E09AAD8C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00D-D056-47E5-AA31-B4E0DD8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67A-17D8-4E8B-955D-E3BE418D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DCB-21EA-4974-8C68-79662BA2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A9E-096B-463C-A30E-D227478E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7E0-0DAB-490F-BA56-56446A14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651A-C9F2-4663-972A-BA4307D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BE4-14F8-4A06-AAFA-EA91A77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6E8C-45A6-4193-BE31-097CB6F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52BE-D42D-49C2-B649-1F66E9F4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973E-E3C4-45B0-B57C-11BAF2D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9C5-53B2-4F6F-9228-4944768E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E499-F5E2-4067-90B7-1B19BD9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0B55-30BD-41DC-AF0A-E09AD7A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AE85-2360-4A77-AD9F-93A8827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94C-904D-4134-B731-106585B2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3C7C-E42B-4290-806B-F9FF7BD0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47A-CF96-428A-B564-50AD350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FA6-634D-48E9-AF27-80B33C3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FF5-2DDC-40B5-8A15-D7F1D02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4D1-C778-406D-BEDC-F1E5CFD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A7A-0401-486B-A6FF-D5641BB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3C2-C7F9-44AD-A84C-EED6AEB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341-97C9-4F3D-9567-17CCF78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E88-318F-4EA0-9733-E07D6E8C2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E5D0-13F9-4584-B4DA-0A5567C32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TERARY DEVIC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3880" y="1905120"/>
            <a:ext cx="58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y love is like a red, red rose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Robert Bu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352680" y="23623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905120" y="1523880"/>
            <a:ext cx="518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oak trees whispered softly in the night breez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John Steinb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24890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523880" y="172728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was so surprised, you could have knocked me over with a feath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362320" y="25146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YPERBO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26"/>
          <p:cNvSpPr/>
          <p:nvPr/>
        </p:nvSpPr>
        <p:spPr>
          <a:xfrm>
            <a:off x="1219320" y="1295280"/>
            <a:ext cx="6095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oa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of doves in immemorial elms;/And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urmur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of innumerable bee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Alfred Lord Tenny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38280" y="2327400"/>
            <a:ext cx="396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752480" y="2514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OMATOPOEI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81080" y="2784600"/>
            <a:ext cx="5105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oning a drowsy syncopated tune,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Langston Hug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14600" y="256536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47920" y="2133720"/>
            <a:ext cx="5715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ger! Tyger!  Burning bright in the forests of the night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William B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581280" y="28195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HY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95280" y="144792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un is a big ball of fire.  The moon, a luminescent pearl, nestled in a cushion of sta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819520" y="248904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4:43:56Z</dcterms:created>
  <dc:creator>Maurna Thornton</dc:creator>
  <dc:description/>
  <dc:language>en-US</dc:language>
  <cp:lastModifiedBy>Hilary Wiltshire</cp:lastModifiedBy>
  <dcterms:modified xsi:type="dcterms:W3CDTF">2011-02-13T18:05:52Z</dcterms:modified>
  <cp:revision>3</cp:revision>
  <dc:subject/>
  <dc:title>LITERARY DEVICES GAME</dc:title>
</cp:coreProperties>
</file>